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B7D6-A198-4FFB-B6F5-DC0A389AA6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First jump: DNA hybridizes with the remaining R sequence at the 3' en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A DNA strand is extended from the 3' en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 Most viral RNA is removed by RNase H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First jump: DNA hybridizes with the remaining R sequence at the 3' e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A DNA strand is extended from the 3' e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Most viral RNA is removed by RNase 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. A second DNA strand is extended from the viral RN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. Both tRNA and the remaining viral RNA are removed by RNase 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. Second jump: The PBS region of the second strand hybridizes with the PBS region of the first stran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. Extension on both DNA strands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A second DNA strand is extended from the viral R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Both tRNA and the remaining viral RNA are removed by RNase 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Second jump: The PBS region of the second strand hybridizes with the PBS region of the first str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Extension on both DNA strands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erse transcriptase has a high error rate when transcribing RNA into DNA  as unlike DNA Polymerase, since it has no proof reading abi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high error rate allows mutations to accumula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mmercially available RT produced by Promega are quoted high error rates in range of one in 17,000 bp for AMV and one in 30,000 bases for M-MLV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rse transcriptase has a high error rate when transcribing RNA into DNA  as unlike DNA Polymerase, since it has no proof reading 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igh error rate allows mutations to accumu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mercially available RT produced by Promega are quoted high error rates in range of one in 17,000 bp for AMV and one in 30,000 bases for M-ML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N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erse Transcriptase can use single stranded RNA into DS DNA – cDN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NA library: A set of clones representing as many as possible of the mRNAs in a given cell type at given tim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e preparation cDNA library, mRNA is extracted, purified, and treated with the enzyme reverse transcriptas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lementary DNA (cDNA) analogs of the isolated mRNA are thereby obtain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ce mature mRNA contains no introns or regulatory regions, a cDNA library composed of coding region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rse Transcriptase can use single stranded RNA into DS DNA – cD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NA library: A set of clones representing as many as possible of the mRNAs in a given cell type at given ti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reparation cDNA library, mRNA is extracted, purified, and treated with the enzyme reverse transcript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ary DNA (cDNA) analogs of the isolated mRNA are thereby obta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mature mRNA contains no introns or regulatory regions, a cDNA library composed of coding reg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ntral Dogm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al Do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al transcription involves synthesis of RNA from DN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erse transcription is the transcription of single stranded RNA into double stranded DN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the help of the enzyme Reverse Transcriptas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transcription involves synthesis of RNA from D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rse transcription is the transcription of single stranded RNA into double stranded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help of the enzyme Reverse Transcript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also known as RNA directed DNA Polymera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DNA Nucleotidyl transferase (RNA directe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Revertas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was discovered by Howard Temin and Baltimore in 1970 independentl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shared Nobel Prize in Physiology or Medicine in 1975 for their discover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also known as RNA directed DNA 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DNA Nucleotidyl transferase (RNA dir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Revert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was discovered by Howard Temin and Baltimore in 1970 independen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hared Nobel Prize in Physiology or Medicine in 1975 for their discove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common in Retroviru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HIV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-MLV (Moloney Murine Leukemia Viru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MV (Avian Myeloblastosis Viru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enzyme includes two activity: DNA polymerase and RNase H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common in Retrovir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-MLV (Moloney Murine Leukemia Vi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V (Avian Myeloblastosis Vi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enzyme includes two activity: DNA polymerase and RNase 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trovirus Replication Cyc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s DN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vir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ost DN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ckaging into virus ; budd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rovirus Replication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s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s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ckaging into virus ; 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tiviral dru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Zidovud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mivud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nfovi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viral dr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idovu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mivu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fov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ical retrovirus has three or four gen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ag-pol- env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trovirus are called + strand because viral RNA itself code for protein product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enzyme code for proteins are called – stran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 : Redundant or repeating seq – 10-8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5:  80 – 1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3: 170-135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ke DNA polymerase, Reverse transcriptase requires primer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NA of the host is Prim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ical retrovirus has three or four ge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g-pol- 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rovirus are called + strand because viral RNA itself code for protein prod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enzyme code for proteins are called – str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 : Redundant or repeating seq – 10-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5:  80 –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3: 170-13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ke DNA polymerase, Reverse transcriptase requires prim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NA of the host is Pr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CHANSIM OF RETROVIRUS REPLIC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. A Retrovirus specific cellular tRNA hybridizes with a complementary region called PBS (Primer Binding Site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. Reverse Transcriptase (RT) starts at this binding site and copies RNA into a single strand of complementary DNA. A DNA segment is extended from tRNA based on the sequence of the retroviral genomic RN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. The viral R and U5 sequences are removed by RNase 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TR – Long Terminal Repea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eft LTR - Redundant sequence [R]+ 5’ untranslated region (U5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ight LTR  - Redundant sequence [R]+ 3’ untranslated region (U3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CHANSIM OF RETROVIRUS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A Retrovirus specific cellular tRNA hybridizes with a complementary region called PBS (Primer Binding Si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 Reverse Transcriptase (RT) starts at this binding site and copies RNA into a single strand of complementary DNA. A DNA segment is extended from tRNA based on the sequence of the retroviral genomic R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. The viral R and U5 sequences are removed by RNase 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TR – Long Terminal Rep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LTR - Redundant sequence [R]+ 5’ untranslated region (U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LTR  - Redundant sequence [R]+ 3’ untranslated region (U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76A4-8B21-4E06-8F16-ECEACC384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9629-835D-430C-BD32-E28FDC28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D1C0-00E7-4F0F-AD4A-36D667EDE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7FFB-5686-49AA-B19F-CE82E8484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AE99-8557-4D05-8ACC-49558AAE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3C7B-9E05-4260-BE25-FAE727D3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A71D-DB66-4620-A330-E207CB86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78BE-6B35-4A28-B329-E0D709B5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8839-934B-47DC-9F6C-E3A5C4EB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B460-7F95-4A43-8764-69815F66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B75C-3ABE-4F78-AFC1-6761DDF9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DE99-6BED-47F1-8C39-76364A12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C636-81D1-467B-9653-3D9D8AEB0E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5ffff"/>
                </a:solidFill>
                <a:latin typeface="Tahoma"/>
              </a:rPr>
              <a:t>Reverse Transcription</a:t>
            </a:r>
            <a:endParaRPr b="0" lang="en-US" sz="5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fff"/>
            </a:gs>
            <a:gs pos="50000">
              <a:srgbClr val="ccccff"/>
            </a:gs>
            <a:gs pos="100000">
              <a:srgbClr val="e5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2"/>
          <p:cNvPicPr/>
          <p:nvPr/>
        </p:nvPicPr>
        <p:blipFill>
          <a:blip r:embed="rId1"/>
          <a:stretch/>
        </p:blipFill>
        <p:spPr>
          <a:xfrm>
            <a:off x="228600" y="228600"/>
            <a:ext cx="5324400" cy="59436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5638680" y="45720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4. </a:t>
            </a: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First jump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: DNA hybridizes with the remaining R sequence at the 3' en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5562720" y="22860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5. A DNA strand is extended from the 3' en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5562720" y="41148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6. Most viral RNA is removed by 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RNase H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e5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3"/>
          <p:cNvPicPr/>
          <p:nvPr/>
        </p:nvPicPr>
        <p:blipFill>
          <a:blip r:embed="rId1"/>
          <a:stretch/>
        </p:blipFill>
        <p:spPr>
          <a:xfrm>
            <a:off x="380880" y="304920"/>
            <a:ext cx="4876920" cy="61722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5410080" y="457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7. A second DNA strand is extended from the viral RNA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5410080" y="190512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8. Both tRNA and the remaining viral RNA are removed by RNase H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5410080" y="3352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9. </a:t>
            </a: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Second jump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: The PBS region of the second strand hybridizes with the PBS region of the first stran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5410080" y="5029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10. Extension on both DNA strands.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erse transcriptase has a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high erro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ate when transcribing RNA into DNA  as unlike DNA Polymerase, since it has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no proof reading 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high error rate allows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mutatio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accumul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ommercially available RT produced by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00ff"/>
                </a:solidFill>
                <a:latin typeface="Tahoma"/>
              </a:rPr>
              <a:t>Promeg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re quoted high error rates in range of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one in 17,00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p for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AMV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one in 30,00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ases for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M-ML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DNA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verse Transcriptase can use single stranded RNA into DS DNA – cDN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DNA library: A set of clones representing as many as possible of the mRNAs in a given cell type at given tim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the preparation cDNA library, mRNA is extracted, purified, and treated with the enzyme reverse transcriptas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lementary DNA (cDNA) analogs of the isolated mRNA are thereby obtain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nce mature mRNA contains no introns or regulatory regions, a cDNA library composed of coding region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entral Dogm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248520" cy="453888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mal transcription involves synthesis of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NA from DN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ion is the transcription of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single stranded RNA into double stranded D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 the help of the enzyme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everse Transcripta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ase also known as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NA directed DNA Polymer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DNA Nucleotidyl transferas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RNA directe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everta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ase was discovered by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Howard Temi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Baltimor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70 independentl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shared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Nobel Priz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Physiology or Medicine in 1975 for their discover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ase common in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etrovir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HI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M-ML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Moloney Murine Leukemia Vir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AM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Avian Myeloblastosis Vir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ase enzyme includes two activity: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DNA polymeras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Nase 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etrovirus Replication Cycle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0" name="Picture 5" descr="HIV5"/>
          <p:cNvPicPr/>
          <p:nvPr/>
        </p:nvPicPr>
        <p:blipFill>
          <a:blip r:embed="rId1"/>
          <a:stretch/>
        </p:blipFill>
        <p:spPr>
          <a:xfrm>
            <a:off x="1676520" y="2209680"/>
            <a:ext cx="5486400" cy="36576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7162920" y="3276720"/>
            <a:ext cx="1447560" cy="30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s D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7238880" y="4267080"/>
            <a:ext cx="144792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r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304920" y="4114800"/>
            <a:ext cx="144756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st D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Line 9"/>
          <p:cNvSpPr/>
          <p:nvPr/>
        </p:nvSpPr>
        <p:spPr>
          <a:xfrm>
            <a:off x="3962520" y="1600200"/>
            <a:ext cx="0" cy="45720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Line 10"/>
          <p:cNvSpPr/>
          <p:nvPr/>
        </p:nvSpPr>
        <p:spPr>
          <a:xfrm>
            <a:off x="3962520" y="6019920"/>
            <a:ext cx="0" cy="38088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Line 12"/>
          <p:cNvSpPr/>
          <p:nvPr/>
        </p:nvSpPr>
        <p:spPr>
          <a:xfrm>
            <a:off x="3962520" y="1600200"/>
            <a:ext cx="4952880" cy="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Line 13"/>
          <p:cNvSpPr/>
          <p:nvPr/>
        </p:nvSpPr>
        <p:spPr>
          <a:xfrm>
            <a:off x="8915400" y="1600200"/>
            <a:ext cx="0" cy="480060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Line 14"/>
          <p:cNvSpPr/>
          <p:nvPr/>
        </p:nvSpPr>
        <p:spPr>
          <a:xfrm>
            <a:off x="3962520" y="6400800"/>
            <a:ext cx="4952880" cy="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Rectangle 17"/>
          <p:cNvSpPr/>
          <p:nvPr/>
        </p:nvSpPr>
        <p:spPr>
          <a:xfrm>
            <a:off x="685800" y="6248520"/>
            <a:ext cx="3200400" cy="30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ckaging into virus ; budd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tiviral dru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idovud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mivud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fov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520" y="53352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ical retrovirus has three or four ge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g-pol- en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rovirus are called + strand because viral RNA itself code for protein produc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erse transcriptase enzyme code for proteins are called – str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 : Redundant or repeating seq – 10-8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5:  80 – 1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3: 170-135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ke DNA polymerase, Reverse transcriptase requires primer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NA of the host is Prim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6320" y="1219320"/>
            <a:ext cx="5267160" cy="53337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7"/>
          <p:cNvSpPr/>
          <p:nvPr/>
        </p:nvSpPr>
        <p:spPr>
          <a:xfrm>
            <a:off x="609480" y="380880"/>
            <a:ext cx="7696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15813"/>
                </a:solidFill>
                <a:latin typeface="Tahoma"/>
              </a:rPr>
              <a:t>MECHANSIM OF RETROVIRUS REPL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5410080" y="13716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1. A Retrovirus specific cellular 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tRNA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 hybridizes with a complementary region called </a:t>
            </a: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PBS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(Primer Binding Site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5334120" y="2666880"/>
            <a:ext cx="3504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2. 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Reverse Transcriptase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(RT) starts at this 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binding site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and 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copies RNA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into a single strand of complementary 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DNA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. A DNA segment is extended from tRNA based on the sequence of the retroviral genomic RN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5410080" y="518148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3. The viral R and U5 sequences are removed by 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RNase H.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380880" y="586728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LTR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 – </a:t>
            </a: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Long Terminal Repe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Left LT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Redundant sequence [R]+ 5’ untranslated region (U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Right LT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- </a:t>
            </a: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Redundant sequence [R]+ 3’ untranslated region (U3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22:55:33Z</dcterms:created>
  <dc:creator>Paul Rindler</dc:creator>
  <dc:description/>
  <dc:language>en-US</dc:language>
  <cp:lastModifiedBy>LEGION2</cp:lastModifiedBy>
  <dcterms:modified xsi:type="dcterms:W3CDTF">2016-01-12T12:22:08Z</dcterms:modified>
  <cp:revision>34</cp:revision>
  <dc:subject/>
  <dc:title>Molecular Genetics</dc:title>
</cp:coreProperties>
</file>